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0D4-1FF3-4344-B05F-C82F8743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1C5-3B21-4AD4-B21C-B25CCE20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B5B-E385-4CD6-BE49-9461E885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8BC-B5FA-44C6-9340-C4AB2EB8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6D8F-1C47-42A0-B087-2BA62AD1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8863-FB32-4E83-8DC7-19E72E45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2BCA-AA98-466C-9AF9-73129060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AED8-F0C6-4358-9E8B-2FA5B96B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9133-68E2-4E52-BF18-1DAF797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F145-3BFC-4242-96EF-C0076358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AE84-989A-4C96-9757-6411236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770-545C-4BF2-966A-7F186D38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A684-80EC-4A39-8E4D-37BBBC79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B0F3-1E33-432F-9AA8-D225DAD7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4CA3-EE3E-4B93-9BFB-6B76CAEF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FF9C-26DF-49B7-A6D7-5B00ABE5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6F8D-21EC-4218-807A-42B1ED96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5B7-3EC8-409E-80C1-CD2E3B4E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07E-945E-4ECC-99EA-42E9803B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AD3-3978-48C3-8670-D9DB0BEA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4E5-357E-45D2-B540-7FF8579E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717-39B4-4CD4-9A7A-9D8D1C65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97D-F7E1-49CC-AAF9-A9C4B4CD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A36-BEF9-454E-AA26-2AF124B0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AB20-4CCC-4384-A3E5-C5AB5902CB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97B2-9598-40FE-A08D-AF46D26981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 the spelling of these tricky wor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ige, plege, knowlige, milage, privle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ge, pledge, knowledge, privileg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eewr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m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bout 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cabul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worksheet with a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ts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a partner do the character cha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your own do the le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chapter 8 for Wednesday. (You won’t be in here tomorrow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3:28:50Z</dcterms:created>
  <dc:creator>rebecca</dc:creator>
  <dc:description/>
  <dc:language>en-US</dc:language>
  <cp:lastModifiedBy>rebecca</cp:lastModifiedBy>
  <dcterms:modified xsi:type="dcterms:W3CDTF">2009-03-16T13:44:38Z</dcterms:modified>
  <cp:revision>2</cp:revision>
  <dc:subject/>
  <dc:title>DOL</dc:title>
</cp:coreProperties>
</file>